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534-6914-4D6E-A25C-C02744E1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FA8-830A-4B08-A5A4-DD7EFD40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0BA-6BFB-412C-B6C0-037D8607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76F-E577-4C85-9A69-48A26458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79D-4991-44D8-8DBF-C18C7868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922-5380-4259-A62A-B89C1596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900-E7A5-454D-AD91-AF174579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BAF-C7DE-4CF2-B8A1-0104D6B3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9DC-0E3E-4AE9-B43D-9E207780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B68-DE06-4105-99E8-58A45148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704-72E5-43F1-8575-F81AE660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2E6-11B6-40AA-ADF5-6BABB539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4C40-701D-4893-8C3F-CD36462E6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OHORT STUDIE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62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1028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914400" cy="711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4880" y="30492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29680" y="24300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mou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93396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6324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1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5960" y="228600"/>
            <a:ext cx="25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48-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327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44760" y="91440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93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151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2485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2155680"/>
            <a:ext cx="67816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50:31Z</dcterms:modified>
  <cp:revision>107</cp:revision>
  <dc:subject/>
  <dc:title>The Art in the State of the Art</dc:title>
</cp:coreProperties>
</file>